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091-C9E2-41D8-AE60-2EF99B179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A7CA-140A-4304-970B-7836EB60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8FE-7144-42F3-95E8-7159E6FB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C96-A63B-4FD3-878B-F2C7EDD8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0EC2-F402-40D3-B708-C31E23D1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D47A-8E98-42D1-849D-53462CF6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4824-C7F4-490D-9E09-5F3EC6CD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C1D3-4A4F-440E-A848-EE779432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406-7226-41C1-80D1-507469A6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CBB-6FDA-4D82-8128-78DD887B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A5C-757D-40EF-B8EB-6AF0586C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589-D6E3-4472-A935-ED898DE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18E2-E247-4225-9FFB-52420E6AC0B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06T08:45:27Z</dcterms:modified>
  <cp:revision>110</cp:revision>
  <dc:subject/>
  <dc:title>PowerPoint</dc:title>
</cp:coreProperties>
</file>